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5216-E8FB-40AB-88A0-2495A873D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D51E-A159-461B-9CCC-27B50EBE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96FA-8FA7-4472-9C08-F1A14FFD2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8C0A-A4DA-4B03-B864-D57BD63AA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9D21-DFEC-46E9-B72B-4089858F7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5F2D-BB85-4662-8D4F-E1B4097B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C205-7C8F-4BF7-824A-1201679A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D408-C01F-41D2-BD63-B8C0445B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6C1D-7B50-4A17-9D55-CF0BF2F3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AD2C-5B66-4724-A6CF-7A5EEF04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54C4-79E5-4B50-B55E-9FFC6428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82A3-99F7-4023-8F1F-0A13907E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6D0F-1218-4890-8B59-E5EF1661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C5A3-7058-4531-994B-0475557A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3BA4-3A88-4A29-A280-052AE5E7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9C45-BF5A-4467-A886-32AE25A06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1408-3845-4525-AF53-CB0A8FEA5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7803-260F-43FF-B7B7-D7E55CAC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4B21-CE0B-428B-9657-A170AFB4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C2EC-3DBE-4863-A70C-A36490A0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16A4-C821-46F8-AC25-4D2C7E7A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A074-6BCC-4C25-A195-79597485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5D50-64BA-4685-819B-3DF44215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D9AC-064F-4D07-9283-321FA8DE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CCBA-6E5A-4CC6-ADD8-BC5192B47B4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A980-FE85-4A6A-A322-CEBA680538A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ow Long, O Lord”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Quarter13, Lesson 1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 And 3 Joh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ges 106-10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3211-D602-4D3E-9173-51D642874A92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Greetings To Gaius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3 Joh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elder to the beloved Gaius whom I love in trut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ray that you will prosper and be in good health even as your soul prosp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have no greater joy than to hear that my children walk in truth as I hear that you d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encourage your hospitality toward the brethren and for strang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D5C7-D9FD-46A8-ACE2-63A0D97FA479}" type="slidenum">
              <a:t>10</a:t>
            </a:fld>
          </a:p>
        </p:txBody>
      </p:sp>
    </p:spTree>
  </p:cSld>
  <p:transition>
    <p:random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Greetings To Gaius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3 Joh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se have borne witness of your love before the chur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do well to help provide for their journey because they went forth for the sake of Jesus’ na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should welcome such fellow workers for the trut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7F9A-A17E-4559-BAAB-2565F09A3AEB}" type="slidenum">
              <a:t>11</a:t>
            </a:fld>
          </a:p>
        </p:txBody>
      </p:sp>
    </p:spTree>
  </p:cSld>
  <p:transition>
    <p:wheel spokes="2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1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iotrephes And Demetrius</a:t>
            </a: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3 Joh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otrephe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ves to have the preemine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es not receive u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ates against us with malicious wor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 himself won’t receive the brethr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 forbids those who wish to receive the brethr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ven putting them out of the churc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f I come, I will call to mind his deeds which he do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87EC-9D22-4D81-B2A3-B6FDF84DDAD9}" type="slidenum">
              <a:t>12</a:t>
            </a:fld>
          </a:p>
        </p:txBody>
      </p:sp>
    </p:spTree>
  </p:cSld>
  <p:transition>
    <p:blinds dir="horz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iotrephes And Demetrius</a:t>
            </a: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3 Joh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loved, do not imitate what is evil, but what is goo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metriu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s a good testimony from al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s a good testimony from the truth itsel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also bear witness of his good testimon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hope to see you shortly, our friends greet you, greet the friends by na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951B-1953-4609-ADDC-FC1386EF23FA}" type="slidenum">
              <a:t>13</a:t>
            </a:fld>
          </a:p>
        </p:txBody>
      </p:sp>
    </p:spTree>
  </p:cSld>
  <p:transition>
    <p:blinds dir="vert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ummary Of Second Joh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letter is addressed to the “elect lady and her children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y have been a particular church because of the plural wording John uses such as “ye”, “yourselves” et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thing is certain about the writing of 2 John, but probably written from Ephes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ohn resided in Ephesus in the later years of his lif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067E-296F-4B1B-A6B5-5F830B72FFE5}" type="slidenum">
              <a:t>2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ummary Of Second Joh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f the “elect lady” is a particular congregation, then two congregations are mentioned since v-13 mentions an “elect sister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“children” would be the individual members of the two congrega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F96B-D849-4BDA-BF4F-D543182F1FA9}" type="slidenum">
              <a:t>3</a:t>
            </a:fld>
          </a:p>
        </p:txBody>
      </p:sp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Walk In The Lord’s commandments 2 John 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elder to the lady and her children whom I love as do those who have known the truth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ce, mercy and peace be with you from God the Father and the S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rejoice that some of your children walk in trut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ead with you to obey that commandment we had from the beginning that we love each oth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363E-8F32-49A0-91BA-58BD7B1517FA}" type="slidenum">
              <a:t>4</a:t>
            </a:fld>
          </a:p>
        </p:txBody>
      </p:sp>
    </p:spTree>
  </p:cSld>
  <p:transition>
    <p:blinds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Walk In The Lord’s commandments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2 John 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is love, that we walk according to His commandm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have heard this from the beginning, and you should walk in i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ue love is to walk in God’s commandm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271F-B6FC-40C0-898C-0944706507F2}" type="slidenum">
              <a:t>5</a:t>
            </a:fld>
          </a:p>
        </p:txBody>
      </p:sp>
    </p:spTree>
  </p:cSld>
  <p:transition>
    <p:blinds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Beware of Deceivers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2 John 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ny deceivers do not confess Christ as coming in the fles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ch a one is a deceiver and an antichri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ok to yourselves and do not lose what you have worked for, but that you may receive a full rewa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oever does not abide in the doctrine of Christ does not have Go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A4F3-A6C5-428B-B212-737672C17F72}" type="slidenum">
              <a:t>6</a:t>
            </a:fld>
          </a:p>
        </p:txBody>
      </p:sp>
    </p:spTree>
  </p:cSld>
  <p:transition>
    <p:zoom dir="in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Beware of Deceivers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2 John 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who abides in the doctrine of Christ has both Father and S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 not receive into your house nor greet anyone who comes to you and does not bring this doctr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 greet (wish him well) such a one is to share in his evil dee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910E-482D-400B-A9CE-EBF642F29843}" type="slidenum">
              <a:t>7</a:t>
            </a:fld>
          </a:p>
        </p:txBody>
      </p:sp>
    </p:spTree>
  </p:cSld>
  <p:transition>
    <p:blinds dir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John’s Farewell Greeting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2 Joh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ohn: “I hope to come to you and speak face to face that our joy may be full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eetings are sent to you from the children of your elect sist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CD0C-0425-4AF6-8F91-8B8883D7B35A}" type="slidenum">
              <a:t>8</a:t>
            </a:fld>
          </a:p>
        </p:txBody>
      </p:sp>
    </p:spTree>
  </p:cSld>
  <p:transition>
    <p:blinds dir="horz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ummary Of Third Joh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ritten to an individual named Gai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letter commends Gaius and scathingly condemns Diotreph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think 2 John was written to the church and 3 John was written to Gaius, a member of that church, the same church where Diotrephes played a dominant ro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metrius, who is recommended to Gaius,  may have delivered this letter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2F46-E745-48C4-AF87-F646B239C909}" type="slidenum">
              <a:t>9</a:t>
            </a:fld>
          </a:p>
        </p:txBody>
      </p:sp>
    </p:spTree>
  </p:cSld>
  <p:transition>
    <p:blinds dir="ver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05:13:13Z</dcterms:created>
  <dc:creator>billy lauderdale</dc:creator>
  <dc:description/>
  <dc:language>en-US</dc:language>
  <cp:lastModifiedBy>billy lauderdale</cp:lastModifiedBy>
  <dcterms:modified xsi:type="dcterms:W3CDTF">2007-06-12T05:01:16Z</dcterms:modified>
  <cp:revision>23</cp:revision>
  <dc:subject/>
  <dc:title>“How Long, O Lord”?</dc:title>
</cp:coreProperties>
</file>